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377-8D22-4492-B576-AD812A8F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AEB-57BE-4F1B-9955-220057F8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F16-07AE-4091-9DB8-4133EDCC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37E-70B7-4119-AFE8-FCE9B910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A6E4-B52B-4A7C-82D5-4402683E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1A6F-E9AF-4DE8-9278-C574C89B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4DF3-4D1D-4C70-BFD5-DC0AC017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841A-70EC-4197-B043-60EEBB00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98C1-F0C9-4D58-9DD7-9A1DA03A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43B8-FD32-4640-9511-E7C4746D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C161-6927-4DC2-B505-FE05EB0B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6D9-A3A3-4CEE-8559-14E4E2D9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0EC0-BF37-47C9-BE22-7C2E284A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3137-39B7-4593-8E05-8990C83E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6D45-F3F7-4ED8-8335-1AC9DE69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2E2A-25D0-4AD4-8394-2A8D2BAE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793D-5343-4E17-B0B0-38E66F0A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2C557-13D4-453E-8C34-D8EE9D22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EC363-7233-463F-AF35-F0DE143C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4C2E7-4A27-4243-9A9C-9AF68B7B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AD0AF-97C7-4088-BB41-6739CA3C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8763F-118F-44CC-A0B4-DF106F01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008-90AA-4163-B25D-003996E8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92972-F21B-42CA-BDBF-031F13B5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7BE1C-0341-4E1C-9467-131E4A97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A4931-96CD-4025-997C-D2CF222F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9541E-C374-49D3-8B5D-C6CF1C93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58017-5E8E-4B31-9E6B-24B31242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08C4D-C9A7-4D2F-8762-0ED5F7BA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83540-BD08-48EE-941A-B6432142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FCACB-B3EB-45F3-8A2D-5ADCF043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35544-4224-4673-9B01-1A7527EF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D1F4B-D477-467F-8019-015CECF5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769-49EF-4022-8B14-A4303827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7AC7D-49BF-402A-B082-C3D3F485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53C25-B1C4-4E08-B58A-A3A92C24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D624A-D5AA-4163-83E4-4BD08AAE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24532-7380-4F4A-BAC7-8BF8AFCD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BD68E-4B54-4D08-B5C2-45EB875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3559D-8E2D-43F2-8E05-FE08586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33CC4-0BEA-407B-822A-476E3F02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E3A57-AC1F-450A-9C38-C2472BA8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A7F6E6-AD57-4D3E-AE38-D53253D9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8BE4A-C051-4355-B10C-4D3D26E7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D56-31A1-4462-BE61-11BC7354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6DA4B-27F1-4FDA-AFAC-532FABB9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4F01A-8435-4A98-AC38-D182BFBC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EA857-8989-4422-93D1-8684D1C6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E0F29-DB95-4781-8B8C-DA11A1B6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28549-1150-4545-BB99-D25F277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3DF02-B77D-48BC-8C13-B57487AC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7C9B7-D87A-4EE7-80D1-BA891503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A3272-2A0E-4A3E-AF39-12D5F846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943D1-010A-41A8-B864-DB8723AC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542A8-A594-43B3-909B-C75F16D3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953-B795-46FA-A920-F0DCD680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8739A-990E-43A8-8A34-7B5B9A8D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E40D4-AD3F-478B-8C30-AACA7C82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20461-CF11-4C89-9A0D-45FC1063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44CB0-95E3-43AD-818C-742B1176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3315-1D5F-4B07-9DFB-C7860A8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50D87-D04B-4550-8438-3140DE21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3B25D-F7B7-4509-8DBA-570A83FB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69BA-6185-4FDD-B0A4-905F34A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FA14-9C72-45E8-A58E-EC8D3AA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9728D-BC8D-47B8-81B0-A254F80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81E-CA4B-4748-9EFF-0FBC43D9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3D1D-930D-479A-B99E-7EAD518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9E65A-38F3-4A31-B573-51037689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DFD9B-1DCC-4CFF-9DAD-3D04D01F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1D983-D934-43BE-9C35-A622E8F4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92F4E-5F74-4E45-B4EB-77919BD2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05ADD-17D5-4992-9CE5-3137B8E6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9F51F-1950-4492-8C43-2BAF235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AB0DA-89DC-4623-9353-C3107AE0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952A6-3799-40C0-8576-79F9AD29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8447D-E9B1-4771-9518-26C644E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837-7796-4A6A-86B4-4BF49E98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10EFB-BBBC-4B34-A3C1-F5E9C20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34025-7962-4082-B025-FCC8B53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8C347-7450-4291-A6DC-6C1F04E9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3B9FF-D364-4B8B-9941-36EEA70C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906E5-3D08-4933-AA52-753BD3C2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27D48-348A-4D68-BEAB-A1C018BC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5D682-8610-4426-97AD-9BF4A9A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4EE53-052C-4449-9DC7-E7CFFBC3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0240-E406-4496-A4A7-2AFD4187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1ED2-DEE5-4507-9E46-73658D7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F86-75BE-43DD-BD1B-ABD1183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F5860-8514-4E4D-A5EE-C2C75EB8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0E23B-5F83-42B3-927E-4A3A14E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FDFF9-7767-475E-AF31-874422B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E702A-80D2-48FA-8870-103E779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D8467-AB00-42D9-8AF1-02A5CE6A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5453C-EEA2-4AA2-9DC2-56B1E5D5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1D18E-5014-4C91-88E7-B70B5E5F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D5E3-3C59-4D44-8F9C-B63FE51E8A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068-D435-47B2-AB60-FC298BB09FF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AD5-FE11-477F-BF85-970A37AFF61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F31E-6E84-4F7E-AF53-DC7F1D3E7F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021F-E636-4944-8D40-02999697A3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897E-D985-4876-80BA-B72E9816D4C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59E2-813F-46F3-8E32-5EEF63B360F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B51B-D697-4787-A35C-104A21AFCF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COMPARING THE ROLES OF WOMEN IN THE COLONIES 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New England and the Chesapeak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men in the Chesapeak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men retained property rights while marri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s was because of the likelihood of spousal lo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men in New Engla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te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usehold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itchen garde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vestoc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athering fuel and wa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ducted trade with other wives for vegetables, milk and eg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men in New Engla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ried women could NO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ke contra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wn proper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o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old offi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subject of her husba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igh birth rate- expect to bear 8-10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igh life expectancy- up to 70 years (longer than in England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men were midwi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lied upon for the delivery of town bab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ci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ightly knit villag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ilt around the meetinghou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wn meetings with direct democrac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gregational Churc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entral planning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men in New Engla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nder suspic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able to bear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dow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conomically independ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sertive / Independent in natu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ferent religious view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lem Witch Tria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ssachusetts (1692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men persecuted for being “different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cus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0 people- tried, condemned and execu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ared differ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6" descr="SalemWitchcraftTrial"/>
          <p:cNvPicPr/>
          <p:nvPr/>
        </p:nvPicPr>
        <p:blipFill>
          <a:blip r:embed="rId1"/>
          <a:stretch/>
        </p:blipFill>
        <p:spPr>
          <a:xfrm>
            <a:off x="4724280" y="220968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Women in the Chesapeak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men in the Chesapeak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men than wom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arly endeavors involved men on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male indentured serva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re subject to sexual abu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mited number of single females made the tri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men outlived m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married quickly with choi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rgained for $$ and la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men in the Chesapeak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matriarch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uch wealth and power held by widow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munity- weaker than New Engla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igh mortality ra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 some areas- 20 yrs. ol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maller famil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aker family bon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hildren seldom had both biological parents li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acked grandpar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7:53:17Z</dcterms:created>
  <dc:creator>Technology Center</dc:creator>
  <dc:description/>
  <dc:language>en-US</dc:language>
  <cp:lastModifiedBy>Melissa Carter</cp:lastModifiedBy>
  <dcterms:modified xsi:type="dcterms:W3CDTF">2011-09-12T00:57:22Z</dcterms:modified>
  <cp:revision>11</cp:revision>
  <dc:subject/>
  <dc:title>Comparing Gender Roles</dc:title>
</cp:coreProperties>
</file>